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4BD4-4052-4948-94C1-7ABD2361FC2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21DD-4DF8-457B-896B-0CC70E4FE1E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E431-6051-4E56-B7BD-6EA633A8071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40E1-E5A3-49D4-A7DA-53B44792EAA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CBFB-CFF8-4638-805B-AEAD54FCDFC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FD89-629A-49FD-9CBC-4C1A7859053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3121-90B9-44CC-8110-6B0A4D0943D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6BC6-B090-4364-8C02-7F2F5F85653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21CF-F749-449C-9420-BDEC66C20F8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F143-C3BF-469B-A370-4B74BA6D77A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F804-F08D-41FA-8BC7-5B191078E3F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5457-7FC9-4C15-AF9F-578E6DB120C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418B-256D-4757-A33F-DD6E1644135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C765-467D-4F30-90DC-0EF1BA70DD6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ABBE-AABE-433E-B226-B5EB763318E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A82F-C387-488E-B56F-8852208F0E5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ABB1-5679-40E7-B22E-D64737232D3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15C8-5E04-4FF1-85E4-B894F8F12AD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74E8-9F33-4C38-9831-A24A8C25EFC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E383-6E25-4AAB-9895-67ABD0A0F69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0F78-15F6-4581-8DF3-7FE5F9C796B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A62-04AE-4472-8C73-7EA4FE57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BC6-386E-4CFD-9154-5D50BFD2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501-9FE7-4378-A8A3-887D90F1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914-3494-4A81-B24D-7F6A028D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381-46C8-4E52-8255-582F3816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BD8-5D9E-451D-AC29-7AEF5038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8BC-B801-4CFE-9A66-85E9D862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D78-E7D3-4FCB-8A88-86EE042A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C89-1257-4D7D-B757-1AD69BB3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D92-2A43-4FCD-9094-ABF4C6E0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8C0-9E4C-45E6-8FAB-D8492C7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ED2-E30D-4808-AC07-CAA38E28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3427-4310-483E-AFD7-6EE3FE56148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35D8-F339-4444-ABDD-CBC3513DC11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ОРОФАЦИЈАЛНЕ РЕГИЈЕ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3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37 - 39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Бенигни тумори меких ткива, остеогени бенигни тумори, неодонтогени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бенигни тумори, одонтогени тумори, терапија бенигних тумора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1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01560" y="6180120"/>
            <a:ext cx="782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B6E9-9564-4098-8DC4-DDBE44BF86F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13" name="Picture 9" descr="C:\Users\Zoran\Downloads\oralna hirurgija\slike\benigni\fibroma\images.jpg"/>
          <p:cNvPicPr/>
          <p:nvPr/>
        </p:nvPicPr>
        <p:blipFill>
          <a:blip r:embed="rId1"/>
          <a:stretch/>
        </p:blipFill>
        <p:spPr>
          <a:xfrm>
            <a:off x="500040" y="1833480"/>
            <a:ext cx="2827440" cy="18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C:\Users\Zoran\Downloads\oralna hirurgija\slike\benigni\fibroma\images (1).jpg"/>
          <p:cNvPicPr/>
          <p:nvPr/>
        </p:nvPicPr>
        <p:blipFill>
          <a:blip r:embed="rId2"/>
          <a:srcRect l="0" t="0" r="1634" b="27189"/>
          <a:stretch/>
        </p:blipFill>
        <p:spPr>
          <a:xfrm>
            <a:off x="3598920" y="1866960"/>
            <a:ext cx="24732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C:\Users\Zoran\Downloads\oralna hirurgija\slike\benigni\fibroma\images (2).jpg"/>
          <p:cNvPicPr/>
          <p:nvPr/>
        </p:nvPicPr>
        <p:blipFill>
          <a:blip r:embed="rId3"/>
          <a:stretch/>
        </p:blipFill>
        <p:spPr>
          <a:xfrm>
            <a:off x="500040" y="4006800"/>
            <a:ext cx="27957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C:\Users\Zoran\Downloads\oralna hirurgija\slike\benigni\fibroma\images (4).jpg"/>
          <p:cNvPicPr/>
          <p:nvPr/>
        </p:nvPicPr>
        <p:blipFill>
          <a:blip r:embed="rId4"/>
          <a:stretch/>
        </p:blipFill>
        <p:spPr>
          <a:xfrm>
            <a:off x="3610080" y="4033800"/>
            <a:ext cx="2604960" cy="194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C:\Users\Zoran\Downloads\oralna hirurgija\slike\benigni\fibroma\images (3).jpg"/>
          <p:cNvPicPr/>
          <p:nvPr/>
        </p:nvPicPr>
        <p:blipFill>
          <a:blip r:embed="rId5"/>
          <a:stretch/>
        </p:blipFill>
        <p:spPr>
          <a:xfrm>
            <a:off x="6303960" y="300348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6A3D-7A12-49BF-8D1E-B1ACD0724B0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44600" y="1623960"/>
            <a:ext cx="8181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57200" y="1720800"/>
            <a:ext cx="8253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ип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спорорастући бенигни тумори пореклом од масног ткива или у његовој непосредној окол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, липоми су јасном ограничени, слободно покретни тумори, сферичног облика и жућкасте боје мас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ипоми се уклањају ексцизијом тумора у цел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ба бити обазрив уколико су локализовани у близини масног јастучета образа да се ова формација не протумачи погрешно као лип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4664-F2D6-40CC-B0FA-D93CEE71023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:\Users\Zoran\Downloads\oralna hirurgija\slike\benigni\download (2).jpg"/>
          <p:cNvPicPr/>
          <p:nvPr/>
        </p:nvPicPr>
        <p:blipFill>
          <a:blip r:embed="rId1"/>
          <a:stretch/>
        </p:blipFill>
        <p:spPr>
          <a:xfrm>
            <a:off x="619200" y="1494000"/>
            <a:ext cx="3220920" cy="241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Users\Zoran\Downloads\oralna hirurgija\slike\benigni\download.jpg"/>
          <p:cNvPicPr/>
          <p:nvPr/>
        </p:nvPicPr>
        <p:blipFill>
          <a:blip r:embed="rId2"/>
          <a:srcRect l="0" t="3657" r="2700" b="7726"/>
          <a:stretch/>
        </p:blipFill>
        <p:spPr>
          <a:xfrm>
            <a:off x="3448080" y="3621240"/>
            <a:ext cx="2523960" cy="28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Users\Zoran\Downloads\oralna hirurgija\slike\benigni\images.jpg"/>
          <p:cNvPicPr/>
          <p:nvPr/>
        </p:nvPicPr>
        <p:blipFill>
          <a:blip r:embed="rId3"/>
          <a:stretch/>
        </p:blipFill>
        <p:spPr>
          <a:xfrm>
            <a:off x="5378400" y="1539720"/>
            <a:ext cx="334008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E7B2-7544-45B3-9AE1-DCDBA0CAE5B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469800" y="1623960"/>
            <a:ext cx="8180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е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сте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бенигни тумори који расту споро, по правилу у доњој вилици, изазивајући деформитет одговарајућег пре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стављени су од зреле кости, а у зависности од места настанка, деле се 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централне ( ендосеалне )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перифер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C662-A352-4D5E-AA4B-076E3A17651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80960" y="1757520"/>
            <a:ext cx="8205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ентрални остеоми настају на унутрашњој страни кортекса и шире се у спонгио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нарасту изазивају локализовану експанзију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, карактеришу се јасно ограниченим засенчењем кости које је оивичено танком линијом расветљења коју даје мембрана остеома. Оклузална или аксијална пројекција потврђују ендосеално порекло лезије, на унутрашњој страни корт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3E8C-0EE9-46C4-9C58-7134C228A65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57200" y="1660680"/>
            <a:ext cx="8182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ферни остеоми настају од периоста или сам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гу бити састављени од компактне кости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steoma durum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ли спонгиозне кости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steoma spongiosum 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J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вљају се и у мандибули и максили, посебно често у пределу рамуса, на кондиларном или короноидном наставку, тврдом непцу и, понекад и у сину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ултипли периферни остеоми су једна од карактеристика Гарднеровог синдрома ( мултипла полипоза танког црева, лојних циста коже, одонтома и импактирани прекобројни зуб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еоми се лече хируршки – ексциз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1126-C3BA-45ED-8042-8F37B25C537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Zoran\Downloads\oralna hirurgija\slike\benigni\osteoma\images (1).jpg"/>
          <p:cNvPicPr/>
          <p:nvPr/>
        </p:nvPicPr>
        <p:blipFill>
          <a:blip r:embed="rId1"/>
          <a:stretch/>
        </p:blipFill>
        <p:spPr>
          <a:xfrm>
            <a:off x="449280" y="1398600"/>
            <a:ext cx="3711600" cy="2627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Zoran\Downloads\oralna hirurgija\slike\benigni\osteoma\images.jpg"/>
          <p:cNvPicPr/>
          <p:nvPr/>
        </p:nvPicPr>
        <p:blipFill>
          <a:blip r:embed="rId2"/>
          <a:stretch/>
        </p:blipFill>
        <p:spPr>
          <a:xfrm>
            <a:off x="6276960" y="1419120"/>
            <a:ext cx="2278080" cy="331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Zoran\Downloads\oralna hirurgija\slike\benigni\osteoma\images (2).jpg"/>
          <p:cNvPicPr/>
          <p:nvPr/>
        </p:nvPicPr>
        <p:blipFill>
          <a:blip r:embed="rId3"/>
          <a:stretch/>
        </p:blipFill>
        <p:spPr>
          <a:xfrm>
            <a:off x="3170160" y="4008600"/>
            <a:ext cx="317196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4"/>
          <a:srcRect l="0" t="0" r="557" b="20662"/>
          <a:stretch/>
        </p:blipFill>
        <p:spPr>
          <a:xfrm>
            <a:off x="488880" y="4098960"/>
            <a:ext cx="26496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7DE9-D85A-4E08-860C-5B7B5B48E0E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33440" y="1623960"/>
            <a:ext cx="82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Егзостозе и тору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C:\Users\Zoran\Downloads\oralna hirurgija\slike\preprotetska\image060.gif"/>
          <p:cNvPicPr/>
          <p:nvPr/>
        </p:nvPicPr>
        <p:blipFill>
          <a:blip r:embed="rId1"/>
          <a:stretch/>
        </p:blipFill>
        <p:spPr>
          <a:xfrm>
            <a:off x="274680" y="2730600"/>
            <a:ext cx="4333680" cy="291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Users\Zoran\Downloads\oralna hirurgija\slike\preprotetska\image071.gif"/>
          <p:cNvPicPr/>
          <p:nvPr/>
        </p:nvPicPr>
        <p:blipFill>
          <a:blip r:embed="rId2"/>
          <a:srcRect l="6338" t="0" r="3173" b="12353"/>
          <a:stretch/>
        </p:blipFill>
        <p:spPr>
          <a:xfrm>
            <a:off x="4757760" y="2728800"/>
            <a:ext cx="417672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D563-B83A-418C-A4C6-DC61CC6062C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420840" y="1552680"/>
            <a:ext cx="8218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онд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лативно редак тумор вилица, састављен искључиво од зрелог хрскавичав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аци хрскавице у мандибули могу да се нађу у пределу симфизе, брадног отвора и око инцизивног ка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максили, ови бенигни тумори често настају од остатака носне хрскав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ондроми се јављају као безболни, релативно покретни тумори, расту споро и могу достићи завидну велич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рз раст са дислокацијом присутних зуба, као и појава болова, могу да буду знаци малигн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0" y="6424560"/>
            <a:ext cx="4059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249D-26B3-42B2-B8A5-F372DEF6D6A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89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444600" y="1697040"/>
            <a:ext cx="8170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оостеоми ( осифицирајући фибром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а лезија периодонталног порекла, када ћелије периодонцијума добијају потенцијал за стварање кости, цемента и фиброзног ткива у различитим пропорц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 налаз показује јасно ограничену зону расветљења која личи на цисту са присутним острвцима коштаног ткива у лум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а киретажа кроз трепанациони отвор у кортикалном делу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DEE3-A206-4A58-97DA-E94B00D5997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орофацијалне региј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69800" y="1660680"/>
            <a:ext cx="721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O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новне карактеристик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 дају мета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сту споро и експанзи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еле се н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е туморе меких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е туморе вилиц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Arial"/>
              </a:rPr>
              <a:t>остеог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Arial"/>
              </a:rPr>
              <a:t>неосте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Arial"/>
              </a:rPr>
              <a:t>одонт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7E5E-0CEE-4947-B5FA-0BFF0176253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457200" y="1600200"/>
            <a:ext cx="8229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остеогени тумори ви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б локализован у кости, састављен од фибробласта и коолагена, веома је ретка лезија и не испољава патогномоничне клиничке или радиографске зна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о, енуклеација у цел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08F9-5952-4F78-9A26-461E015DC70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433440" y="1539720"/>
            <a:ext cx="8265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ГАНТОЦЕЛУЛАР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ухватају већу групу лезија којима је заједнички микроскопски налаз џиновских вишеједарн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чајно је да ове лезије испољавају различиту ћуд – од лезије бенигног карактера до агресивне неопла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ГЛ спада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ферни гигантоцелулар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ентрални гигантоцелулар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гантоцелуларни ту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рки тумор код хиперпаратиреод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еуризмална коштана цис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рубиз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3D18-29D3-433D-9953-E3F9BE3A256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Users\Zoran\Downloads\oralna hirurgija\slike\benigni\gigantocelulare\Zunge_etc_14.JPG"/>
          <p:cNvPicPr/>
          <p:nvPr/>
        </p:nvPicPr>
        <p:blipFill>
          <a:blip r:embed="rId1"/>
          <a:stretch/>
        </p:blipFill>
        <p:spPr>
          <a:xfrm>
            <a:off x="588960" y="2033640"/>
            <a:ext cx="79088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A0B7-23E9-4F5B-8A5C-53A668AEDE9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192240" y="1576440"/>
            <a:ext cx="8675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ферни гигантоцелуларни гранулом ( гигантоцелуларни епулис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а ГЛ лезија ви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Џиновске вишеједарне ћелије имају карактеристике остеокласта, а моноједарне ћелије показују особине моноцитно- макрофагних ћелија и остеобл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ферни ГЛ гранулом је реактивна лезија на локалне иритације или трау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нодулус припојен за подлогу широком основом или се налази на петељ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изован је искључиво у везивном ткиву гингиве или слузокоже безубог алвеоларног греб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2F22-4240-4A8F-829A-78A56E64A88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444600" y="1708200"/>
            <a:ext cx="825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одуси су црвени или плавичасти, меки или чврсти, некад улцерисани, могу да доведу до померања зуба или ерозиј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C:\Users\Zoran\Downloads\oralna hirurgija\slike\benigni\gigantocelulare\a10293.005-1_big.gif"/>
          <p:cNvPicPr/>
          <p:nvPr/>
        </p:nvPicPr>
        <p:blipFill>
          <a:blip r:embed="rId1"/>
          <a:stretch/>
        </p:blipFill>
        <p:spPr>
          <a:xfrm>
            <a:off x="189000" y="3083040"/>
            <a:ext cx="4413240" cy="219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C:\Users\Zoran\Downloads\oralna hirurgija\slike\benigni\gigantocelulare\0236532955.jpg"/>
          <p:cNvPicPr/>
          <p:nvPr/>
        </p:nvPicPr>
        <p:blipFill>
          <a:blip r:embed="rId2"/>
          <a:srcRect l="14092" t="19246" r="915" b="2549"/>
          <a:stretch/>
        </p:blipFill>
        <p:spPr>
          <a:xfrm>
            <a:off x="4740120" y="2622600"/>
            <a:ext cx="4191120" cy="3168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2"/>
          <p:cNvSpPr/>
          <p:nvPr/>
        </p:nvSpPr>
        <p:spPr>
          <a:xfrm>
            <a:off x="204840" y="552276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о са конзервативним приступ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EEF7-4551-448B-937A-DD57C770015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4960" y="-360"/>
            <a:ext cx="887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444600" y="1708200"/>
            <a:ext cx="830268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Централни гигантоцелулар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ка бенигна интраосеална лезија. Лезије су обично без симптома и откривају се случајно, или због безболне експанзиј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агресивне лезије ( асимптоматске, расту споро, не пробијају кортекс и не изазивају ресорпцију коренова зуб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гресивне лезије ( изражени су бол, брз раст, перфорација кортекса, ресорпција коренова и често рецидивирају после хируршког уклања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CC13-1708-446A-AC0C-67E7AAB4A00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457200" y="1647720"/>
            <a:ext cx="8205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ГГ се радиографски испољава као унилокуларно или мултилокуларно расветљење кости вилица, јасно ограничено, различите велич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снову ртг налаза није могућа дијагн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а централних гигантоцелуларних гранулома вилица је хируршка, најчешће киретаж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тим, треба имати на уму да рецидиви нису ретка пој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времени приступ лечењу ових лезија подразумева интралезијску апликацију кортикостероида или калцито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ена калцитонина се заснива на идеји да овај хормон тиреоидне жлезде спречава ресорпцију кости и сузбија функцију остеокл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B33B-A4E1-486F-A06F-648F2435F68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433440" y="1539720"/>
            <a:ext cx="8324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рки тумор код хиперпаратиреод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активна лезија кости услед хиперпаратиреодизма, која је клинички и микроскопски идентична централном гигантоцелуларном гранулому ви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е лезије често захватају мандибулу, клавикулу, ребра и карлицу у случајевима хипертиреод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нифестује се као интраосеална лезија која често перфорира кортекс. Некад се испољава и као епулис или расте из екстракционе ране. Лезије су чешће мултип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и тумори се не лече оралнохирур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0" y="6424560"/>
            <a:ext cx="41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9345-9FD5-46DF-B5F2-3CFD23DA131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469800" y="1479600"/>
            <a:ext cx="8180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еуризмална коштана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тка реактивна интраосеална псеудоциста, најчешће локализована у дугим костима и пршљеновима, а знатно ређе у вилиц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се испољавају отоком меког ткива услед експанзије кости. Оток обично има брзу еволуци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тг налаз показује мултилокуларно или унилокуларно расветљење кости обично удружено са истањењем корт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се сматра да је анеуризмална коштана циста, заправо, агресивна варијанта гигантоцелуларног гранул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3B59-54C1-4E09-A3F9-B40E08144A5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469800" y="1708200"/>
            <a:ext cx="8180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Черубиз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генетски поремећај развоја вилица који се карактерише њиховим билатералним безболним увећањ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ремећај је чешћи у доњој него у горњој вил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C:\Users\Zoran\Downloads\oralna hirurgija\slike\benigni\images (5).jpg"/>
          <p:cNvPicPr/>
          <p:nvPr/>
        </p:nvPicPr>
        <p:blipFill>
          <a:blip r:embed="rId1"/>
          <a:stretch/>
        </p:blipFill>
        <p:spPr>
          <a:xfrm>
            <a:off x="625320" y="3645000"/>
            <a:ext cx="4146840" cy="2320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C:\Users\Zoran\Downloads\oralna hirurgija\slike\benigni\download (5).jpg"/>
          <p:cNvPicPr/>
          <p:nvPr/>
        </p:nvPicPr>
        <p:blipFill>
          <a:blip r:embed="rId2"/>
          <a:srcRect l="52740" t="8199" r="19881" b="11923"/>
          <a:stretch/>
        </p:blipFill>
        <p:spPr>
          <a:xfrm>
            <a:off x="5418000" y="3289320"/>
            <a:ext cx="29480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E2E1-FA02-43AA-AC46-E24FA6EE987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57200" y="1744560"/>
            <a:ext cx="814536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изациј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вршно ( усне, образ, под уста, језик и гингив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убљим интерфасцијалним простор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ичу од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зив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алих ткива мезенхимн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823D-B55E-41E9-9EB1-DC66D0FBB7A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420840" y="1563840"/>
            <a:ext cx="8205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уроге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Шваном ( неурилемом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дак бенигни тумор вилица који потиче од Шванов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главном се јављају у доњој вилици као солитарна лезија у задњем делу тела или рамусу. Тумор лагано расте, најчешће асимптоматски ( могућа појава осетљивости и парестезиј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рактеристичан ртг налаз показује јасно ограничено расветљење оивичено танком зоном склеротичне кости. Зуби у суседству лезије су малпонирани и показују знаке ресорп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енуклеација тум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A5AA-1293-4A04-BD22-696BD132978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444600" y="1636560"/>
            <a:ext cx="819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Неурофи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 редак солитарни тум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имптоми могу варирати од потпуно асимптоматске лезије, до веома болне, поготову у току жвак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 се види као неправилно расветљење без јасних граница, обично иза менталног отвора повезано са мандибуларним кан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и приступ зависи од величине и локализације л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олико лезија није директно повезана са нервним стаблом може се једноставно енуклеирати. У противном, треба је ексцидирати заједно са нер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A7E2-4ADF-4C1B-A227-BCF53AE453A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69800" y="1708200"/>
            <a:ext cx="8674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скуларне малфо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стају као последица грешака у васкуларној морфогенези, јављају се на рођењу, а углавном постају евидентне након трауме, хируршке интервенције или 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имптоматологија је неспецифична: оток, асиметрија лица, осећај притиска, бол, покретљивост зуба, епистакса, повремено спонтано крварење око вратов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Лечење може бити нехируршко (склерозирање лезије) и хируршко ( киретажа, емболизација, ресекција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745E-5B5A-4C89-8E84-F771E6A127B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469800" y="1660680"/>
            <a:ext cx="81694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онтогени тумори ви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ухватају групу лезија које су настале  од зубних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венствено су интраосеалне лезије ( централне ), али могу се јавити и екстраосеал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асификација одонтогених тумора је начињена  у складу са генезом ткива  од које поти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шов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зенхим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A45E-1B3B-4C30-A1A4-33572C8E67D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42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444600" y="1647720"/>
            <a:ext cx="8134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ни ( искључиво од одонтогеног епител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мелобл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најчешће развија из глеђног органа или његових ћелијских остат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јавља у облику солидне мултицистичне лезије, са одликама спорог, локално инвазивног раста, али уопштено бенигног понашањ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тно чешће се јавља у мандибули и то у бочном делу тела и рамус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ст тумора је асимптоматског карактера, али се веће лезије испољавају експанзијом вилице и от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BB98-8F4B-49F2-B7F8-C18E81A14A9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8" name="Freeform 28"/>
          <p:cNvSpPr/>
          <p:nvPr/>
        </p:nvSpPr>
        <p:spPr>
          <a:xfrm>
            <a:off x="5734080" y="3728880"/>
            <a:ext cx="401760" cy="1011240"/>
          </a:xfrm>
          <a:custGeom>
            <a:avLst/>
            <a:gdLst>
              <a:gd name="textAreaLeft" fmla="*/ 0 w 401760"/>
              <a:gd name="textAreaRight" fmla="*/ 402120 w 4017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536" h="1200">
                <a:moveTo>
                  <a:pt x="296" y="0"/>
                </a:moveTo>
                <a:cubicBezTo>
                  <a:pt x="200" y="76"/>
                  <a:pt x="104" y="152"/>
                  <a:pt x="56" y="240"/>
                </a:cubicBezTo>
                <a:cubicBezTo>
                  <a:pt x="8" y="328"/>
                  <a:pt x="0" y="440"/>
                  <a:pt x="8" y="528"/>
                </a:cubicBezTo>
                <a:cubicBezTo>
                  <a:pt x="16" y="616"/>
                  <a:pt x="64" y="696"/>
                  <a:pt x="104" y="768"/>
                </a:cubicBezTo>
                <a:cubicBezTo>
                  <a:pt x="144" y="840"/>
                  <a:pt x="176" y="888"/>
                  <a:pt x="248" y="960"/>
                </a:cubicBezTo>
                <a:cubicBezTo>
                  <a:pt x="320" y="1032"/>
                  <a:pt x="488" y="1160"/>
                  <a:pt x="536" y="1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480960" y="1731960"/>
            <a:ext cx="83869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, амелобластом најчешће даје слику мултилокуларног расветљења вилице, са ресорпцијом коренова суседних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зија може да буде удружена са неизниклим зу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роскопски налаз показује бројне варијанте које нису у вези  са биолошким понашањем тум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облици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ликуларн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ексиформ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4138560" y="45957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РЕСЕКЦИЈА ЕН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E2AA-38BF-42D4-B6E2-F46DEE6AFF7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Zoran\Downloads\oralna hirurgija\slike\benigni\download (3).jpg"/>
          <p:cNvPicPr/>
          <p:nvPr/>
        </p:nvPicPr>
        <p:blipFill>
          <a:blip r:embed="rId1"/>
          <a:stretch/>
        </p:blipFill>
        <p:spPr>
          <a:xfrm>
            <a:off x="293760" y="1476360"/>
            <a:ext cx="2363760" cy="2951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C:\Users\Zoran\Downloads\oralna hirurgija\slike\benigni\download (4).jpg"/>
          <p:cNvPicPr/>
          <p:nvPr/>
        </p:nvPicPr>
        <p:blipFill>
          <a:blip r:embed="rId2"/>
          <a:stretch/>
        </p:blipFill>
        <p:spPr>
          <a:xfrm>
            <a:off x="5243400" y="1579680"/>
            <a:ext cx="3684600" cy="2268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Users\Zoran\Downloads\oralna hirurgija\slike\benigni\images (4).jpg"/>
          <p:cNvPicPr/>
          <p:nvPr/>
        </p:nvPicPr>
        <p:blipFill>
          <a:blip r:embed="rId3"/>
          <a:stretch/>
        </p:blipFill>
        <p:spPr>
          <a:xfrm>
            <a:off x="2795760" y="3963960"/>
            <a:ext cx="4518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34F0-8ECE-477E-BFD1-02185E22933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493560" y="1636560"/>
            <a:ext cx="8217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шовити ( од одонтогеног епитела и ектомезенхим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мелобластични фи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редак. Јавља се код млађих пацијената, у прве две деценије живота. Расте асимптоматски, а ртг налаз се описује као унилокуларно или мултилокуларно расветљење, са јасно ограниченим ивиц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ако је бенигни тумор, лечи се радикално ресекцијом дела вилице, због рецидива као малигни амелобластични фиброса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EFFA-AE35-4880-BE7D-216BD6CA005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469800" y="1828800"/>
            <a:ext cx="8132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мелобластични фибро – одо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личан преходном, али хистолошки садржи глеђ и ден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гуће је да је овај тумор само фаза у развоју одонт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 разлику од АФ не рецидивира и лечи се конзервативно хируршки енуклеацијом у целости и обично се лако одваја од суседн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0" y="6424560"/>
            <a:ext cx="4100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E776-6E64-44C6-A863-ECF6B52A77C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444600" y="1671480"/>
            <a:ext cx="820584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донт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најчешћи одонтогени тумори. Они и нису заправо неоплазме већ развојне аномалије ( хамартом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пуно развијени одонтоми садрже глеђ, дентин и различиту количину пулпе и це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е се 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ишеделно сложне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ompound composite odontom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динствено сложене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omplex composite odontoma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88B5-16F0-486A-882B-B43B71330A0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80960" y="1936800"/>
            <a:ext cx="819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396720" y="1625760"/>
            <a:ext cx="818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ЕПИТЕЛН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апил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стају на површини оралног епитела. Могу се наћи на образу, уснама, језику или слузокожи неп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ју егзофитичне бенигне, петељкасте туморе, јасно ограничене, некад покретне најчешће храпаве површ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ина папилома су мањих димензија  ( неколико милиметар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новна карактеристика тумора је пролиферација спинозних ћелија папиларног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0" y="6424560"/>
            <a:ext cx="4114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313C-1A9C-4E0F-A316-8FFD936F31C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444600" y="1697040"/>
            <a:ext cx="819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квиру ото-денталног синдрома, могу да се јаве и мултипли одонто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, компоновани одонтом показује бројне мале творевине сличне зубима, окружене зоном расветљења и јасно ограничене од околне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онтоми се лече хируршки, конзервативним приступо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1C20-891D-432A-8000-BE289A0D96B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Users\Zoran\Downloads\oralna hirurgija\slike\benigni\download (1).jpg"/>
          <p:cNvPicPr/>
          <p:nvPr/>
        </p:nvPicPr>
        <p:blipFill>
          <a:blip r:embed="rId1"/>
          <a:stretch/>
        </p:blipFill>
        <p:spPr>
          <a:xfrm>
            <a:off x="5511960" y="1781280"/>
            <a:ext cx="3170160" cy="2195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Users\Zoran\Downloads\oralna hirurgija\slike\benigni\images (1).jpg"/>
          <p:cNvPicPr/>
          <p:nvPr/>
        </p:nvPicPr>
        <p:blipFill>
          <a:blip r:embed="rId2"/>
          <a:stretch/>
        </p:blipFill>
        <p:spPr>
          <a:xfrm>
            <a:off x="457200" y="1673280"/>
            <a:ext cx="2419200" cy="313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:\Users\Zoran\Downloads\oralna hirurgija\slike\benigni\images (2).jpg"/>
          <p:cNvPicPr/>
          <p:nvPr/>
        </p:nvPicPr>
        <p:blipFill>
          <a:blip r:embed="rId3"/>
          <a:stretch/>
        </p:blipFill>
        <p:spPr>
          <a:xfrm>
            <a:off x="3160800" y="4067280"/>
            <a:ext cx="29937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778F-7225-453F-BC2E-77C37AB29CB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760" y="14580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469800" y="1576440"/>
            <a:ext cx="8145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зенхимни одонтогени тум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донтогени фи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дак тумор, који се јавља у било ком старосном до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ле лезије су обично асимптоматске, док веће врше експанзију кости  и проузрокују расклаћење сусед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и се хируршки , енуклеацијом , а рецидиви су р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16EE-5772-49BE-8DAB-CFD8C216D80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444600" y="1671480"/>
            <a:ext cx="8181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икс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ки тумори. Радиографски се виде као уницистично  или мултицистично расветљење јасно или нејасно огранич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соми вилица нису инкапсулирани већ инфилтришу околну к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тога није могуће у целости их уклонити конзервативним хируршким поступ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е лезије се уклањају радикално , ресекцијом дела вилице због спречавања рециди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5DC1-42B3-4711-B139-9A9E7FA06FC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433440" y="1684440"/>
            <a:ext cx="81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Цементобл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редак тумор кога је тешко разграничити од остеобласт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налази у моларном пределу доње вилице повезан са кореновима првог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а је енуклеација лезије, истовремена са екстракцијом или апикотомијом захваће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цидиви се не јављ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11" name="Date Placeholder 3"/>
          <p:cNvSpPr/>
          <p:nvPr/>
        </p:nvSpPr>
        <p:spPr>
          <a:xfrm>
            <a:off x="0" y="6424560"/>
            <a:ext cx="401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A15F-1DFA-4E50-9B27-E6A548870BC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C:\Users\Zoran\Downloads\oralna hirurgija\slike\benigni\download.jpg"/>
          <p:cNvPicPr/>
          <p:nvPr/>
        </p:nvPicPr>
        <p:blipFill>
          <a:blip r:embed="rId1"/>
          <a:stretch/>
        </p:blipFill>
        <p:spPr>
          <a:xfrm>
            <a:off x="201600" y="1486080"/>
            <a:ext cx="3692520" cy="2449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Users\Zoran\Downloads\oralna hirurgija\slike\benigni\download (2).jpg"/>
          <p:cNvPicPr/>
          <p:nvPr/>
        </p:nvPicPr>
        <p:blipFill>
          <a:blip r:embed="rId2"/>
          <a:srcRect l="5852" t="126" r="0" b="0"/>
          <a:stretch/>
        </p:blipFill>
        <p:spPr>
          <a:xfrm>
            <a:off x="6653160" y="1432080"/>
            <a:ext cx="2282760" cy="3527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C:\Users\Zoran\Downloads\oralna hirurgija\slike\benigni\images.jpg"/>
          <p:cNvPicPr/>
          <p:nvPr/>
        </p:nvPicPr>
        <p:blipFill>
          <a:blip r:embed="rId3"/>
          <a:stretch/>
        </p:blipFill>
        <p:spPr>
          <a:xfrm>
            <a:off x="4181400" y="3076560"/>
            <a:ext cx="20764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F914-3AA2-43BD-AA32-C70EBED5B9D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33440" y="1660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пиломи се лече ексцизијом ( или деструкцијом електрокаутером или криосондом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Zoran\Downloads\oralna hirurgija\slike\benigni\papiloma\download.jpg"/>
          <p:cNvPicPr/>
          <p:nvPr/>
        </p:nvPicPr>
        <p:blipFill>
          <a:blip r:embed="rId1"/>
          <a:stretch/>
        </p:blipFill>
        <p:spPr>
          <a:xfrm>
            <a:off x="361800" y="2513160"/>
            <a:ext cx="2511720" cy="241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Zoran\Downloads\oralna hirurgija\slike\benigni\papiloma\images (1).jpg"/>
          <p:cNvPicPr/>
          <p:nvPr/>
        </p:nvPicPr>
        <p:blipFill>
          <a:blip r:embed="rId2"/>
          <a:stretch/>
        </p:blipFill>
        <p:spPr>
          <a:xfrm>
            <a:off x="3233880" y="460224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Users\Zoran\Downloads\oralna hirurgija\slike\benigni\papiloma\images (2).jpg"/>
          <p:cNvPicPr/>
          <p:nvPr/>
        </p:nvPicPr>
        <p:blipFill>
          <a:blip r:embed="rId3"/>
          <a:stretch/>
        </p:blipFill>
        <p:spPr>
          <a:xfrm>
            <a:off x="5708520" y="2320920"/>
            <a:ext cx="32162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1440" y="122040"/>
            <a:ext cx="81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B89A-3A3F-4209-950F-BFF6FACECCD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57200" y="1697040"/>
            <a:ext cx="8205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еукоплаки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ју беличасте лезије оралне слузокоже које се не могу сматрати туморима у правом смислу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тим због могуће малигне алтерације ( 4% у 20 година ), ове промене треба сматрати премалигним лез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изглед оралне леукоплакије може да варира од изоловане беле мрље на оралној слузници  до дифузно распрострањене промене на широкој површини различите боје ( бела,сивкаста, жућкаста код пушач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вршина такође може бити глатка до дубоко избразд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F031-95DC-473B-9F67-8862FF5BEA4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57200" y="1647720"/>
            <a:ext cx="821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роскопски,  леукоплакија се карактерише знацима хиперкератозе, паракератозе и аканто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разита атипија епителних ћелија ( дискератоза ) може да сигнализира развој карцинома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n situ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, пре свега, подразумева уклањање узрочног фа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иритације различитог карактера ) ако се може идентификов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у ексцизију промене треба предузети када лезија поприми атипичан к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5FB7-EA67-4483-9F7E-76A0B8BC776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99" name="Picture 8" descr="C:\Users\Zoran\Downloads\oralna hirurgija\slike\benigni\leukop\images.jpg"/>
          <p:cNvPicPr/>
          <p:nvPr/>
        </p:nvPicPr>
        <p:blipFill>
          <a:blip r:embed="rId1"/>
          <a:stretch/>
        </p:blipFill>
        <p:spPr>
          <a:xfrm>
            <a:off x="463680" y="1549440"/>
            <a:ext cx="2466720" cy="185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Users\Zoran\Downloads\oralna hirurgija\slike\benigni\leukop\images (1).jpg"/>
          <p:cNvPicPr/>
          <p:nvPr/>
        </p:nvPicPr>
        <p:blipFill>
          <a:blip r:embed="rId2"/>
          <a:stretch/>
        </p:blipFill>
        <p:spPr>
          <a:xfrm>
            <a:off x="3532320" y="162576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Users\Zoran\Downloads\oralna hirurgija\slike\benigni\leukop\images (2).jpg"/>
          <p:cNvPicPr/>
          <p:nvPr/>
        </p:nvPicPr>
        <p:blipFill>
          <a:blip r:embed="rId3"/>
          <a:stretch/>
        </p:blipFill>
        <p:spPr>
          <a:xfrm>
            <a:off x="401760" y="408780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C:\Users\Zoran\Downloads\oralna hirurgija\slike\benigni\leukop\images (3).jpg"/>
          <p:cNvPicPr/>
          <p:nvPr/>
        </p:nvPicPr>
        <p:blipFill>
          <a:blip r:embed="rId4"/>
          <a:stretch/>
        </p:blipFill>
        <p:spPr>
          <a:xfrm>
            <a:off x="3529080" y="407664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C:\Users\Zoran\Downloads\oralna hirurgija\slike\benigni\leukop\images (4).jpg"/>
          <p:cNvPicPr/>
          <p:nvPr/>
        </p:nvPicPr>
        <p:blipFill>
          <a:blip r:embed="rId5"/>
          <a:stretch/>
        </p:blipFill>
        <p:spPr>
          <a:xfrm>
            <a:off x="6265800" y="2843280"/>
            <a:ext cx="272412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5D9D-BACD-49F2-8B94-532F1AE4D22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15840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9680" y="1660680"/>
            <a:ext cx="8277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ЗИВН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чести тумори оралне шупљине које формира субмукозно везивно ткиво, укључујући и периост алвеоларн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ми се клинички испољавају као тумори издигнути од површине, јасно ограничени, прекривени слузокожом нормалне боје, помични или на петељ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о , елиптичном ексцизијом  лезије и примарним затварањем 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Korisnik</cp:lastModifiedBy>
  <dcterms:modified xsi:type="dcterms:W3CDTF">2019-09-09T16:04:30Z</dcterms:modified>
  <cp:revision>1812</cp:revision>
  <dc:subject/>
  <dc:title>NAZIV PREDAVANJA</dc:title>
</cp:coreProperties>
</file>